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443-9103-41FB-B5DD-30B67177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41D-E978-4C39-9E79-7D8D89FD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C2B-0339-4436-82A3-9053C996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603-294C-4EC0-A70C-8EDD661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A000-A855-437E-A6F9-7C90D7AE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AD0-0D0A-4839-9848-0671C06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301E-5B8C-4958-AAD5-40E8C37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38FD-AFE9-4281-8230-0185AA8A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0AD8-B3C2-49FF-A4B1-2A0F01BB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AF71-F042-49FA-BEF0-2592C6F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9D0-75AB-4083-AFE1-BCCC43A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262-0BE8-4F95-8819-BFA2801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0ED6-8989-4A41-B634-0143FA2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8AB8-E75F-47E8-AB74-D30DEEAF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B9E8-2937-419C-AF32-53AF53F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3605-51A9-4817-8F53-0C78D630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9859-42C3-4E75-91A2-1E1BA4D6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0C3-78AD-4602-B300-BB444D9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E31-A07D-4821-85B5-CE4A123E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960-D3C1-4E29-945A-DBA7208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714-1E1A-45EE-817E-93B46149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787-7956-4DFA-97BB-DF9DCE7A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B83-3191-4522-BF69-8E141E62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610-1226-4279-89AD-44657BD8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443-FED8-4A76-A925-13DDEB1D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C7EE-C971-4AA2-8CCA-10F1E77BD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2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854440"/>
            <a:ext cx="6400800" cy="1511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Comic Sans MS"/>
              </a:rPr>
              <a:t>Module 9 Unit 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5840" y="3793680"/>
            <a:ext cx="70581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’m going to do long jump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4211640" y="48690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新标准英语（一年级起始） 第五册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0"/>
          <p:cNvGrpSpPr/>
          <p:nvPr/>
        </p:nvGrpSpPr>
        <p:grpSpPr>
          <a:xfrm>
            <a:off x="971640" y="1916280"/>
            <a:ext cx="7056360" cy="2160360"/>
            <a:chOff x="971640" y="1916280"/>
            <a:chExt cx="7056360" cy="2160360"/>
          </a:xfrm>
        </p:grpSpPr>
        <p:pic>
          <p:nvPicPr>
            <p:cNvPr id="182" name="Picture 3" descr="3"/>
            <p:cNvPicPr/>
            <p:nvPr/>
          </p:nvPicPr>
          <p:blipFill>
            <a:blip r:embed="rId1"/>
            <a:stretch/>
          </p:blipFill>
          <p:spPr>
            <a:xfrm>
              <a:off x="3419640" y="1917720"/>
              <a:ext cx="215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4" descr="8"/>
            <p:cNvPicPr/>
            <p:nvPr/>
          </p:nvPicPr>
          <p:blipFill>
            <a:blip r:embed="rId2"/>
            <a:stretch/>
          </p:blipFill>
          <p:spPr>
            <a:xfrm>
              <a:off x="971640" y="1916280"/>
              <a:ext cx="215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" descr="9"/>
            <p:cNvPicPr/>
            <p:nvPr/>
          </p:nvPicPr>
          <p:blipFill>
            <a:blip r:embed="rId3"/>
            <a:stretch/>
          </p:blipFill>
          <p:spPr>
            <a:xfrm>
              <a:off x="5869080" y="1916280"/>
              <a:ext cx="21589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 Box 8"/>
          <p:cNvSpPr/>
          <p:nvPr/>
        </p:nvSpPr>
        <p:spPr>
          <a:xfrm>
            <a:off x="755640" y="4653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_______ is going to run a race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826920" y="453852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m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0" y="0"/>
            <a:ext cx="3780000" cy="1438200"/>
          </a:xfrm>
          <a:custGeom>
            <a:avLst/>
            <a:gdLst>
              <a:gd name="textAreaLeft" fmla="*/ 862920 w 3780000"/>
              <a:gd name="textAreaRight" fmla="*/ 2917080 w 3780000"/>
              <a:gd name="textAreaTop" fmla="*/ 328320 h 1438200"/>
              <a:gd name="textAreaBottom" fmla="*/ 110988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Comic Sans MS"/>
              </a:rPr>
              <a:t>Big Ey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-252360" y="0"/>
            <a:ext cx="4248000" cy="1611360"/>
          </a:xfrm>
          <a:prstGeom prst="irregularSeal2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Up and dow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2195640" y="1341360"/>
            <a:ext cx="6554520" cy="4660200"/>
            <a:chOff x="2195640" y="1341360"/>
            <a:chExt cx="6554520" cy="4660200"/>
          </a:xfrm>
        </p:grpSpPr>
        <p:sp>
          <p:nvSpPr>
            <p:cNvPr id="190" name="Text Box 6"/>
            <p:cNvSpPr/>
            <p:nvPr/>
          </p:nvSpPr>
          <p:spPr>
            <a:xfrm>
              <a:off x="2195640" y="5084640"/>
              <a:ext cx="655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play basketball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1" name="Picture 8" descr="res01_attpic_brief"/>
            <p:cNvPicPr/>
            <p:nvPr/>
          </p:nvPicPr>
          <p:blipFill>
            <a:blip r:embed="rId1"/>
            <a:stretch/>
          </p:blipFill>
          <p:spPr>
            <a:xfrm>
              <a:off x="2843280" y="1341360"/>
              <a:ext cx="3959280" cy="375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8"/>
          <p:cNvGrpSpPr/>
          <p:nvPr/>
        </p:nvGrpSpPr>
        <p:grpSpPr>
          <a:xfrm>
            <a:off x="1116000" y="0"/>
            <a:ext cx="6821640" cy="5714280"/>
            <a:chOff x="1116000" y="0"/>
            <a:chExt cx="6821640" cy="5714280"/>
          </a:xfrm>
        </p:grpSpPr>
        <p:pic>
          <p:nvPicPr>
            <p:cNvPr id="193" name="Picture 6" descr="286"/>
            <p:cNvPicPr/>
            <p:nvPr/>
          </p:nvPicPr>
          <p:blipFill>
            <a:blip r:embed="rId1"/>
            <a:stretch/>
          </p:blipFill>
          <p:spPr>
            <a:xfrm>
              <a:off x="1116000" y="0"/>
              <a:ext cx="6821640" cy="45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7"/>
            <p:cNvSpPr/>
            <p:nvPr/>
          </p:nvSpPr>
          <p:spPr>
            <a:xfrm>
              <a:off x="2484360" y="4797360"/>
              <a:ext cx="460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play football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4"/>
          <p:cNvGrpSpPr/>
          <p:nvPr/>
        </p:nvGrpSpPr>
        <p:grpSpPr>
          <a:xfrm>
            <a:off x="2484360" y="404640"/>
            <a:ext cx="6048360" cy="5525640"/>
            <a:chOff x="2484360" y="404640"/>
            <a:chExt cx="6048360" cy="5525640"/>
          </a:xfrm>
        </p:grpSpPr>
        <p:pic>
          <p:nvPicPr>
            <p:cNvPr id="196" name="Picture 2" descr="OOOPIC_00cyl_20090915d0321f5fda08c7d8"/>
            <p:cNvPicPr/>
            <p:nvPr/>
          </p:nvPicPr>
          <p:blipFill>
            <a:blip r:embed="rId1"/>
            <a:stretch/>
          </p:blipFill>
          <p:spPr>
            <a:xfrm>
              <a:off x="2771640" y="404640"/>
              <a:ext cx="382608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3"/>
            <p:cNvSpPr/>
            <p:nvPr/>
          </p:nvSpPr>
          <p:spPr>
            <a:xfrm>
              <a:off x="2484360" y="5013360"/>
              <a:ext cx="604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play badminton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6"/>
          <p:cNvGrpSpPr/>
          <p:nvPr/>
        </p:nvGrpSpPr>
        <p:grpSpPr>
          <a:xfrm>
            <a:off x="0" y="115920"/>
            <a:ext cx="9144000" cy="5525280"/>
            <a:chOff x="0" y="115920"/>
            <a:chExt cx="9144000" cy="5525280"/>
          </a:xfrm>
        </p:grpSpPr>
        <p:sp>
          <p:nvSpPr>
            <p:cNvPr id="199" name="Text Box 4"/>
            <p:cNvSpPr/>
            <p:nvPr/>
          </p:nvSpPr>
          <p:spPr>
            <a:xfrm>
              <a:off x="2411280" y="4724280"/>
              <a:ext cx="612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do long jump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0" name="Picture 5" descr="06-2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443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7"/>
          <p:cNvGrpSpPr/>
          <p:nvPr/>
        </p:nvGrpSpPr>
        <p:grpSpPr>
          <a:xfrm>
            <a:off x="1258920" y="0"/>
            <a:ext cx="6667560" cy="5785920"/>
            <a:chOff x="1258920" y="0"/>
            <a:chExt cx="6667560" cy="5785920"/>
          </a:xfrm>
        </p:grpSpPr>
        <p:pic>
          <p:nvPicPr>
            <p:cNvPr id="202" name="Picture 5" descr="Tour_64875"/>
            <p:cNvPicPr/>
            <p:nvPr/>
          </p:nvPicPr>
          <p:blipFill>
            <a:blip r:embed="rId1"/>
            <a:stretch/>
          </p:blipFill>
          <p:spPr>
            <a:xfrm>
              <a:off x="1258920" y="0"/>
              <a:ext cx="6667560" cy="46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6"/>
            <p:cNvSpPr/>
            <p:nvPr/>
          </p:nvSpPr>
          <p:spPr>
            <a:xfrm>
              <a:off x="3419640" y="4869000"/>
              <a:ext cx="424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swim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7"/>
          <p:cNvGrpSpPr/>
          <p:nvPr/>
        </p:nvGrpSpPr>
        <p:grpSpPr>
          <a:xfrm>
            <a:off x="971640" y="0"/>
            <a:ext cx="7561080" cy="5425560"/>
            <a:chOff x="971640" y="0"/>
            <a:chExt cx="7561080" cy="5425560"/>
          </a:xfrm>
        </p:grpSpPr>
        <p:pic>
          <p:nvPicPr>
            <p:cNvPr id="205" name="Picture 5" descr="20051027190345818"/>
            <p:cNvPicPr/>
            <p:nvPr/>
          </p:nvPicPr>
          <p:blipFill>
            <a:blip r:embed="rId1"/>
            <a:stretch/>
          </p:blipFill>
          <p:spPr>
            <a:xfrm>
              <a:off x="971640" y="0"/>
              <a:ext cx="6769080" cy="45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6"/>
            <p:cNvSpPr/>
            <p:nvPr/>
          </p:nvSpPr>
          <p:spPr>
            <a:xfrm>
              <a:off x="2411280" y="4508640"/>
              <a:ext cx="612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do high jump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2"/>
          <p:cNvGrpSpPr/>
          <p:nvPr/>
        </p:nvGrpSpPr>
        <p:grpSpPr>
          <a:xfrm>
            <a:off x="2411280" y="311040"/>
            <a:ext cx="4969080" cy="6464160"/>
            <a:chOff x="2411280" y="311040"/>
            <a:chExt cx="4969080" cy="6464160"/>
          </a:xfrm>
        </p:grpSpPr>
        <p:pic>
          <p:nvPicPr>
            <p:cNvPr id="208" name="Picture 10" descr="V5I~F_J1GG%]YBE6CDSCQ3K"/>
            <p:cNvPicPr/>
            <p:nvPr/>
          </p:nvPicPr>
          <p:blipFill>
            <a:blip r:embed="rId1"/>
            <a:stretch/>
          </p:blipFill>
          <p:spPr>
            <a:xfrm>
              <a:off x="2556000" y="311040"/>
              <a:ext cx="4589280" cy="45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1"/>
            <p:cNvSpPr/>
            <p:nvPr/>
          </p:nvSpPr>
          <p:spPr>
            <a:xfrm>
              <a:off x="2411280" y="5035320"/>
              <a:ext cx="496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play ping-pong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8"/>
          <p:cNvGrpSpPr/>
          <p:nvPr/>
        </p:nvGrpSpPr>
        <p:grpSpPr>
          <a:xfrm>
            <a:off x="1187280" y="692280"/>
            <a:ext cx="7956720" cy="4948920"/>
            <a:chOff x="1187280" y="692280"/>
            <a:chExt cx="7956720" cy="4948920"/>
          </a:xfrm>
        </p:grpSpPr>
        <p:pic>
          <p:nvPicPr>
            <p:cNvPr id="211" name="Picture 5" descr="race09"/>
            <p:cNvPicPr/>
            <p:nvPr/>
          </p:nvPicPr>
          <p:blipFill>
            <a:blip r:embed="rId1"/>
            <a:stretch/>
          </p:blipFill>
          <p:spPr>
            <a:xfrm>
              <a:off x="1187280" y="692280"/>
              <a:ext cx="6667560" cy="40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6"/>
            <p:cNvSpPr/>
            <p:nvPr/>
          </p:nvSpPr>
          <p:spPr>
            <a:xfrm>
              <a:off x="3022560" y="4724280"/>
              <a:ext cx="612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b200"/>
                  </a:solidFill>
                  <a:latin typeface="Comic Sans MS"/>
                </a:rPr>
                <a:t>run a race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ports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ay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25"/>
          <p:cNvSpPr/>
          <p:nvPr/>
        </p:nvSpPr>
        <p:spPr>
          <a:xfrm>
            <a:off x="0" y="175752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play basketbal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26" descr="res01_attpic_brief"/>
          <p:cNvPicPr/>
          <p:nvPr/>
        </p:nvPicPr>
        <p:blipFill>
          <a:blip r:embed="rId1"/>
          <a:stretch/>
        </p:blipFill>
        <p:spPr>
          <a:xfrm>
            <a:off x="0" y="115920"/>
            <a:ext cx="2987640" cy="155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" descr="286"/>
          <p:cNvPicPr/>
          <p:nvPr/>
        </p:nvPicPr>
        <p:blipFill>
          <a:blip r:embed="rId2"/>
          <a:stretch/>
        </p:blipFill>
        <p:spPr>
          <a:xfrm>
            <a:off x="3059280" y="39600"/>
            <a:ext cx="2952720" cy="16606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9"/>
          <p:cNvSpPr/>
          <p:nvPr/>
        </p:nvSpPr>
        <p:spPr>
          <a:xfrm>
            <a:off x="3324240" y="175752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play footbal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31" descr="OOOPIC_00cyl_20090915d0321f5fda08c7d8"/>
          <p:cNvPicPr/>
          <p:nvPr/>
        </p:nvPicPr>
        <p:blipFill>
          <a:blip r:embed="rId3"/>
          <a:stretch/>
        </p:blipFill>
        <p:spPr>
          <a:xfrm>
            <a:off x="6227640" y="71280"/>
            <a:ext cx="2916360" cy="1629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2"/>
          <p:cNvSpPr/>
          <p:nvPr/>
        </p:nvSpPr>
        <p:spPr>
          <a:xfrm>
            <a:off x="6227640" y="162864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play badmint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324000" y="4005360"/>
            <a:ext cx="23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o long jum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35" descr="06-2"/>
          <p:cNvPicPr/>
          <p:nvPr/>
        </p:nvPicPr>
        <p:blipFill>
          <a:blip r:embed="rId4"/>
          <a:stretch/>
        </p:blipFill>
        <p:spPr>
          <a:xfrm>
            <a:off x="0" y="2276640"/>
            <a:ext cx="3059280" cy="154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0" descr="Tour_64875"/>
          <p:cNvPicPr/>
          <p:nvPr/>
        </p:nvPicPr>
        <p:blipFill>
          <a:blip r:embed="rId5"/>
          <a:stretch/>
        </p:blipFill>
        <p:spPr>
          <a:xfrm>
            <a:off x="6156360" y="2349360"/>
            <a:ext cx="2987640" cy="1440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1"/>
          <p:cNvSpPr/>
          <p:nvPr/>
        </p:nvSpPr>
        <p:spPr>
          <a:xfrm>
            <a:off x="6948360" y="3933720"/>
            <a:ext cx="14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swi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43" descr="V5I~F_J1GG%]YBE6CDSCQ3K"/>
          <p:cNvPicPr/>
          <p:nvPr/>
        </p:nvPicPr>
        <p:blipFill>
          <a:blip r:embed="rId6"/>
          <a:stretch/>
        </p:blipFill>
        <p:spPr>
          <a:xfrm>
            <a:off x="0" y="4581360"/>
            <a:ext cx="2992320" cy="14623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4"/>
          <p:cNvSpPr/>
          <p:nvPr/>
        </p:nvSpPr>
        <p:spPr>
          <a:xfrm>
            <a:off x="250920" y="6093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play ping-po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45" descr="304423_53_thumb"/>
          <p:cNvPicPr/>
          <p:nvPr/>
        </p:nvPicPr>
        <p:blipFill>
          <a:blip r:embed="rId7"/>
          <a:stretch/>
        </p:blipFill>
        <p:spPr>
          <a:xfrm>
            <a:off x="3059280" y="4581360"/>
            <a:ext cx="3025440" cy="1413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6"/>
          <p:cNvSpPr/>
          <p:nvPr/>
        </p:nvSpPr>
        <p:spPr>
          <a:xfrm>
            <a:off x="3470400" y="6093000"/>
            <a:ext cx="23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o high jum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48" descr="race09"/>
          <p:cNvPicPr/>
          <p:nvPr/>
        </p:nvPicPr>
        <p:blipFill>
          <a:blip r:embed="rId8"/>
          <a:stretch/>
        </p:blipFill>
        <p:spPr>
          <a:xfrm>
            <a:off x="6156360" y="4581360"/>
            <a:ext cx="2793960" cy="16970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9"/>
          <p:cNvSpPr/>
          <p:nvPr/>
        </p:nvSpPr>
        <p:spPr>
          <a:xfrm>
            <a:off x="6478560" y="6149880"/>
            <a:ext cx="26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run a ra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1979640" y="472428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do long jump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06-2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35"/>
          <p:cNvSpPr/>
          <p:nvPr/>
        </p:nvSpPr>
        <p:spPr>
          <a:xfrm>
            <a:off x="0" y="406440"/>
            <a:ext cx="3780000" cy="1438200"/>
          </a:xfrm>
          <a:custGeom>
            <a:avLst/>
            <a:gdLst>
              <a:gd name="textAreaLeft" fmla="*/ 862920 w 3780000"/>
              <a:gd name="textAreaRight" fmla="*/ 2917080 w 3780000"/>
              <a:gd name="textAreaTop" fmla="*/ 328320 h 1438200"/>
              <a:gd name="textAreaBottom" fmla="*/ 110988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Comic Sans MS"/>
              </a:rPr>
              <a:t>Speak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324000" y="2276640"/>
            <a:ext cx="88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On sports Day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b2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m going to__________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He/She is going to__________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We love Sports. Come on! I</a:t>
            </a:r>
            <a:r>
              <a:rPr b="1" lang="en-US" sz="2800" spc="-1" strike="noStrike">
                <a:solidFill>
                  <a:srgbClr val="00b2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m the winner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262728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o high jump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924360" y="35733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o long jump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20051027190345818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4503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2268360" y="450864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do high jump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race09"/>
          <p:cNvPicPr/>
          <p:nvPr/>
        </p:nvPicPr>
        <p:blipFill>
          <a:blip r:embed="rId1"/>
          <a:stretch/>
        </p:blipFill>
        <p:spPr>
          <a:xfrm>
            <a:off x="1116000" y="189000"/>
            <a:ext cx="6667560" cy="4279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268360" y="470700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run a race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febeef07-f941-4c58-983d-64b8ae309a53"/>
          <p:cNvPicPr/>
          <p:nvPr/>
        </p:nvPicPr>
        <p:blipFill>
          <a:blip r:embed="rId1"/>
          <a:stretch/>
        </p:blipFill>
        <p:spPr>
          <a:xfrm>
            <a:off x="1042920" y="189000"/>
            <a:ext cx="7201080" cy="4895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8"/>
          <p:cNvGrpSpPr/>
          <p:nvPr/>
        </p:nvGrpSpPr>
        <p:grpSpPr>
          <a:xfrm>
            <a:off x="2124000" y="4991040"/>
            <a:ext cx="6121440" cy="1608480"/>
            <a:chOff x="2124000" y="4991040"/>
            <a:chExt cx="6121440" cy="1608480"/>
          </a:xfrm>
        </p:grpSpPr>
        <p:sp>
          <p:nvSpPr>
            <p:cNvPr id="162" name="Text Box 5"/>
            <p:cNvSpPr/>
            <p:nvPr/>
          </p:nvSpPr>
          <p:spPr>
            <a:xfrm>
              <a:off x="2124000" y="4991040"/>
              <a:ext cx="6121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b200"/>
                  </a:solidFill>
                  <a:latin typeface="Comic Sans MS"/>
                </a:rPr>
                <a:t>Sports Day</a:t>
              </a:r>
              <a:endParaRPr b="1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4067280" y="6018120"/>
              <a:ext cx="266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200"/>
                  </a:solidFill>
                  <a:latin typeface="Comic Sans MS"/>
                </a:rPr>
                <a:t>运动日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539640" y="2060640"/>
            <a:ext cx="820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Who is going to do long jump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Who is going to do high jump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Who is going to run a race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0" y="190440"/>
            <a:ext cx="3780000" cy="1438200"/>
          </a:xfrm>
          <a:custGeom>
            <a:avLst/>
            <a:gdLst>
              <a:gd name="textAreaLeft" fmla="*/ 862920 w 3780000"/>
              <a:gd name="textAreaRight" fmla="*/ 2917080 w 3780000"/>
              <a:gd name="textAreaTop" fmla="*/ 328320 h 1438200"/>
              <a:gd name="textAreaBottom" fmla="*/ 110988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watch and answ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拓智家园——小学三年新标准英语Module 9 Unit 1 I'm going to do long jump(0)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1"/>
          <p:cNvGrpSpPr/>
          <p:nvPr/>
        </p:nvGrpSpPr>
        <p:grpSpPr>
          <a:xfrm>
            <a:off x="900000" y="2131920"/>
            <a:ext cx="7056720" cy="2160720"/>
            <a:chOff x="900000" y="2131920"/>
            <a:chExt cx="7056720" cy="2160720"/>
          </a:xfrm>
        </p:grpSpPr>
        <p:pic>
          <p:nvPicPr>
            <p:cNvPr id="168" name="Picture 3" descr="1"/>
            <p:cNvPicPr/>
            <p:nvPr/>
          </p:nvPicPr>
          <p:blipFill>
            <a:blip r:embed="rId1"/>
            <a:stretch/>
          </p:blipFill>
          <p:spPr>
            <a:xfrm>
              <a:off x="900000" y="2131920"/>
              <a:ext cx="215928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" descr="4"/>
            <p:cNvPicPr/>
            <p:nvPr/>
          </p:nvPicPr>
          <p:blipFill>
            <a:blip r:embed="rId2"/>
            <a:stretch/>
          </p:blipFill>
          <p:spPr>
            <a:xfrm>
              <a:off x="3348000" y="2131920"/>
              <a:ext cx="215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" descr="5"/>
            <p:cNvPicPr/>
            <p:nvPr/>
          </p:nvPicPr>
          <p:blipFill>
            <a:blip r:embed="rId3"/>
            <a:stretch/>
          </p:blipFill>
          <p:spPr>
            <a:xfrm>
              <a:off x="5797440" y="2133720"/>
              <a:ext cx="215928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6"/>
          <p:cNvSpPr/>
          <p:nvPr/>
        </p:nvSpPr>
        <p:spPr>
          <a:xfrm>
            <a:off x="684360" y="450864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_____ is going to do long jump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826920" y="4437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0" y="0"/>
            <a:ext cx="3780000" cy="1438200"/>
          </a:xfrm>
          <a:custGeom>
            <a:avLst/>
            <a:gdLst>
              <a:gd name="textAreaLeft" fmla="*/ 862920 w 3780000"/>
              <a:gd name="textAreaRight" fmla="*/ 2917080 w 3780000"/>
              <a:gd name="textAreaTop" fmla="*/ 328320 h 1438200"/>
              <a:gd name="textAreaBottom" fmla="*/ 110988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Comic Sans MS"/>
              </a:rPr>
              <a:t>Big Ey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0"/>
          <p:cNvGrpSpPr/>
          <p:nvPr/>
        </p:nvGrpSpPr>
        <p:grpSpPr>
          <a:xfrm>
            <a:off x="1117440" y="1773360"/>
            <a:ext cx="6981840" cy="2158920"/>
            <a:chOff x="1117440" y="1773360"/>
            <a:chExt cx="6981840" cy="2158920"/>
          </a:xfrm>
        </p:grpSpPr>
        <p:pic>
          <p:nvPicPr>
            <p:cNvPr id="175" name="Picture 3" descr="2"/>
            <p:cNvPicPr/>
            <p:nvPr/>
          </p:nvPicPr>
          <p:blipFill>
            <a:blip r:embed="rId1"/>
            <a:stretch/>
          </p:blipFill>
          <p:spPr>
            <a:xfrm>
              <a:off x="3565440" y="1773360"/>
              <a:ext cx="215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7"/>
            <p:cNvPicPr/>
            <p:nvPr/>
          </p:nvPicPr>
          <p:blipFill>
            <a:blip r:embed="rId2"/>
            <a:stretch/>
          </p:blipFill>
          <p:spPr>
            <a:xfrm>
              <a:off x="1117440" y="1773360"/>
              <a:ext cx="215928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6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21589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9"/>
          <p:cNvSpPr/>
          <p:nvPr/>
        </p:nvSpPr>
        <p:spPr>
          <a:xfrm>
            <a:off x="755640" y="4653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_____ is going to do high jump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826920" y="45385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m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0" y="0"/>
            <a:ext cx="3780000" cy="1438200"/>
          </a:xfrm>
          <a:custGeom>
            <a:avLst/>
            <a:gdLst>
              <a:gd name="textAreaLeft" fmla="*/ 862920 w 3780000"/>
              <a:gd name="textAreaRight" fmla="*/ 2917080 w 3780000"/>
              <a:gd name="textAreaTop" fmla="*/ 328320 h 1438200"/>
              <a:gd name="textAreaBottom" fmla="*/ 110988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Comic Sans MS"/>
              </a:rPr>
              <a:t>Big Ey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9:38:46Z</dcterms:created>
  <dc:creator>微软用户</dc:creator>
  <dc:description/>
  <dc:language>en-US</dc:language>
  <cp:lastModifiedBy>Administrator</cp:lastModifiedBy>
  <dcterms:modified xsi:type="dcterms:W3CDTF">2015-12-08T03:33:02Z</dcterms:modified>
  <cp:revision>78</cp:revision>
  <dc:subject/>
  <dc:title>Module 9 Unit 1 </dc:title>
</cp:coreProperties>
</file>